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E87-9B8E-442C-AFBF-54ABD115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3F8-29BA-4FA6-9E0A-02D23EC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0E3-DECE-4057-AE84-09D0AA61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9E5-7879-4E36-AEFB-13C32685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CF35-46AB-4A10-B30F-822F8232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068-BCAB-4D11-9D03-BCD8EF3B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EE9-0F48-4D4A-92D6-09B148E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5179-9674-4E54-A346-5B06479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0CB2-EA73-4418-A3E2-F324999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DC23-9A6E-4591-95DA-26040EC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EB14-AE14-48ED-9813-68701B5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D83-99ED-44E8-BA3F-44809DF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D8CF-1A68-47A7-91AD-7AADDFF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6EB-0EE5-4130-BD01-A2D7D02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CF39-F9F9-4025-8955-43996E9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F37-BAFC-45CF-89C0-124B8DBA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1895-19F0-41A8-BBD0-9471FBC9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327-A6D7-4489-82F8-D7D112F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08C-4D9A-4C18-B296-9B74BE8C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961-96C6-47D4-A938-3B26E5A4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705-5AEB-4B77-9881-55306333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F71-DED4-4637-898A-7D20979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91F-FB72-4EC7-8AB6-D5324DE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EE2-91DB-4B1F-8FD9-02B8FFA5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B52-2429-45C7-8193-B6379F2B9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4D15-74C4-4C01-A8FF-AF152B24F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Long, O Lord?”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 Peter 3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1 -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to followers that shared the same faith the apostles h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ably written between A.D. 64-68 after Nero’s persecutions be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knew his life was coming to an end, and he wanted to be sure that followers would have his written reminder after he was g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 P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 - Full, true knowledge is the key to obtaining God’s bless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2 - Beware of false prophets and their doctr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3 - Remember what you have been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d’s Promises Are Sur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-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cond epistle is written to stir up your minds in rememb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spel is not based on cunningly devised fa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ffers will come in the last days doubting Christ’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spoke the world into exis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caused the world to be floo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maintains balance in the world until Christ’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is not slack concerning His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d’s Promises Are Sur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8-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igno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concept of time is different from 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rd is not slack concerning his pro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oes not want any to per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esire is that all rep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Day Of The Lord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0-1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ime of Christ’s return cannot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th and works therein shall be destr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ook forward to new heavens and a new earth where righteousness dw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 Steadfast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4-1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prepared for Chris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had written to you concerning thes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unlearned and unstable wrest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that you are not led away with the error of the wi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 in grace and in knowled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lse Teach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that plagued Paul were not imm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re false teachers due to igno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lse teachers can be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lse teachers seek personal 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ave lost respect for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4-23T15:29:54Z</dcterms:modified>
  <cp:revision>41</cp:revision>
  <dc:subject/>
  <dc:title>Life of Christ, Part 2 In Perea</dc:title>
</cp:coreProperties>
</file>